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Chapter 16</a:t>
            </a:r>
            <a:br>
              <a:rPr sz="4400"/>
            </a:b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Group 1"/>
          <p:cNvGrpSpPr/>
          <p:nvPr/>
        </p:nvGrpSpPr>
        <p:grpSpPr>
          <a:xfrm>
            <a:off x="6553080" y="3124080"/>
            <a:ext cx="1752840" cy="1828800"/>
            <a:chOff x="6553080" y="3124080"/>
            <a:chExt cx="1752840" cy="1828800"/>
          </a:xfrm>
        </p:grpSpPr>
        <p:sp>
          <p:nvSpPr>
            <p:cNvPr id="76" name="Rectangle 8"/>
            <p:cNvSpPr/>
            <p:nvPr/>
          </p:nvSpPr>
          <p:spPr>
            <a:xfrm>
              <a:off x="6553080" y="3124080"/>
              <a:ext cx="1752840" cy="182880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7162560" y="38098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7238880" y="365724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457200" y="7621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energy levels are full, except for the last one, we state that Potassium h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VALENCE ELECTR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s outermost energy le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685800" y="335268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note this valence electron by using a simple no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ight Arrow 5"/>
          <p:cNvSpPr/>
          <p:nvPr/>
        </p:nvSpPr>
        <p:spPr>
          <a:xfrm>
            <a:off x="4572000" y="4572000"/>
            <a:ext cx="1523880" cy="304920"/>
          </a:xfrm>
          <a:prstGeom prst="rightArrow">
            <a:avLst>
              <a:gd name="adj1" fmla="val 50000"/>
              <a:gd name="adj2" fmla="val 4997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359000"/>
            <a:ext cx="8305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determine how atoms of one element will react you need to identify the valence elec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60948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lectron Dot Dia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266688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do this with an ELECTRON DOT DIAGRAMS instead of the energy level diagr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33520" y="4191120"/>
            <a:ext cx="82296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IC DOT DIA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symbol for the element surrounded by as many dots as there are electrons in its outer energy lev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ts are written in pairs on four sides of the element symb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2280" y="68580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ow to Write Th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217476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by writing one dot on the top of the element symbol, then work your way around adding dots to the right, bottom, and left (clockwis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im23"/>
          <p:cNvPicPr/>
          <p:nvPr/>
        </p:nvPicPr>
        <p:blipFill>
          <a:blip r:embed="rId1"/>
          <a:stretch/>
        </p:blipFill>
        <p:spPr>
          <a:xfrm>
            <a:off x="5638680" y="3809880"/>
            <a:ext cx="3200400" cy="208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533520" y="411480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a fifth dot to the top to make a pair.  Continue in this manner until you complete the lev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0" descr="im23"/>
          <p:cNvPicPr/>
          <p:nvPr/>
        </p:nvPicPr>
        <p:blipFill>
          <a:blip r:embed="rId1"/>
          <a:srcRect l="64491" t="0" r="0" b="0"/>
          <a:stretch/>
        </p:blipFill>
        <p:spPr>
          <a:xfrm>
            <a:off x="5410080" y="2165400"/>
            <a:ext cx="2362320" cy="266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im12"/>
          <p:cNvPicPr/>
          <p:nvPr/>
        </p:nvPicPr>
        <p:blipFill>
          <a:blip r:embed="rId2"/>
          <a:srcRect l="54306" t="46053" r="37346" b="35373"/>
          <a:stretch/>
        </p:blipFill>
        <p:spPr>
          <a:xfrm>
            <a:off x="1486080" y="1741320"/>
            <a:ext cx="2517480" cy="3295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685800" y="685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ormat appears to be easier to re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181480" y="5105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Dot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62120" y="51814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Level Di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131760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use electron dot diagrams to show how atoms bond with each 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68580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Using Dot Dia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33520" y="2590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emic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o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force that holds two atoms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33520" y="38577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bond with other atoms in such a way that each atom becomes more STABLE.  That is, their outer energy levels will resemble those of the noble g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533520" y="16225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 in the lev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los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nucleus have the LOWEST amount of energy and are said to be in energy level 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Text Box 3"/>
          <p:cNvSpPr/>
          <p:nvPr/>
        </p:nvSpPr>
        <p:spPr>
          <a:xfrm>
            <a:off x="228600" y="685800"/>
            <a:ext cx="6711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nergy Lev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533520" y="34290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rth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nucleus have the HIGHEST amount of energy and are the easiest to remov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1666800"/>
            <a:ext cx="746748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loser a negatively charged electron is to the positively charged nucleus, the more strongly it is attracted to the nucleu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removing electrons that are close to the nucleus takes more energy than removing those that are farther away from the nucl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8600" y="609480"/>
            <a:ext cx="6711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nergy Lev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04920" y="60948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eriodic Table and Energy Lev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33520" y="118440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determine the number of electrons in an atom by looking at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ten above each element symb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8" descr="im12"/>
          <p:cNvPicPr/>
          <p:nvPr/>
        </p:nvPicPr>
        <p:blipFill>
          <a:blip r:embed="rId1"/>
          <a:stretch/>
        </p:blipFill>
        <p:spPr>
          <a:xfrm>
            <a:off x="1295280" y="2895480"/>
            <a:ext cx="62103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04920" y="60948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lectron Configu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3520" y="11764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mber of electro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neutral atom of the element increases by one from left to right across a peri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09480" y="2743200"/>
            <a:ext cx="6096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all that energy level one can hold up to two elec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09480" y="3809880"/>
            <a:ext cx="6553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helium’s outer energy level is comple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9" descr="im12"/>
          <p:cNvPicPr/>
          <p:nvPr/>
        </p:nvPicPr>
        <p:blipFill>
          <a:blip r:embed="rId1"/>
          <a:srcRect l="86866" t="9227" r="2830" b="60716"/>
          <a:stretch/>
        </p:blipFill>
        <p:spPr>
          <a:xfrm>
            <a:off x="7010280" y="2286000"/>
            <a:ext cx="17067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57200" y="4952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with a complete outer energy level are STABLE.  Therefore, helium is sta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3520" y="119376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level two can hold up to eight elec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60948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lectron Configu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1" descr="im12"/>
          <p:cNvPicPr/>
          <p:nvPr/>
        </p:nvPicPr>
        <p:blipFill>
          <a:blip r:embed="rId1"/>
          <a:srcRect l="85917" t="38208" r="1909" b="33285"/>
          <a:stretch/>
        </p:blipFill>
        <p:spPr>
          <a:xfrm>
            <a:off x="6553080" y="2362320"/>
            <a:ext cx="2212920" cy="304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533520" y="2195640"/>
            <a:ext cx="6095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Neon is STABLE because it has a complete outer energy level with exactly eight electron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1222200"/>
            <a:ext cx="3886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 and the elements below it in Group 18 have eight electrons in their outer energy leve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4920" y="60948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Noble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82800" y="0"/>
            <a:ext cx="3535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Why do atoms comb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53376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energy levels are stable, so they do not combine easily with other eleme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0" descr="im17"/>
          <p:cNvPicPr/>
          <p:nvPr/>
        </p:nvPicPr>
        <p:blipFill>
          <a:blip r:embed="rId1"/>
          <a:stretch/>
        </p:blipFill>
        <p:spPr>
          <a:xfrm>
            <a:off x="4532400" y="1295280"/>
            <a:ext cx="40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28600" y="685800"/>
            <a:ext cx="701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33520" y="15238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 metals each have one electron in their outer energy lev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3520" y="2743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his electron that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MOVE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lkali metals rea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37339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asier it is to remove an electron, the more reactive the atom 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im20"/>
          <p:cNvPicPr/>
          <p:nvPr/>
        </p:nvPicPr>
        <p:blipFill>
          <a:blip r:embed="rId1"/>
          <a:stretch/>
        </p:blipFill>
        <p:spPr>
          <a:xfrm>
            <a:off x="2270160" y="1295280"/>
            <a:ext cx="4603680" cy="4491000"/>
          </a:xfrm>
          <a:prstGeom prst="rect">
            <a:avLst/>
          </a:prstGeom>
          <a:ln w="0">
            <a:noFill/>
          </a:ln>
        </p:spPr>
      </p:pic>
      <p:sp>
        <p:nvSpPr>
          <p:cNvPr id="70" name="Oval 11"/>
          <p:cNvSpPr/>
          <p:nvPr/>
        </p:nvSpPr>
        <p:spPr>
          <a:xfrm>
            <a:off x="3809880" y="2819520"/>
            <a:ext cx="1524240" cy="1447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505320" y="2438280"/>
            <a:ext cx="2209680" cy="2210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3048120" y="2057400"/>
            <a:ext cx="3047760" cy="297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447920" y="6858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Potassium’s electr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St. Aloysius</cp:lastModifiedBy>
  <dcterms:modified xsi:type="dcterms:W3CDTF">2014-02-11T13:41:43Z</dcterms:modified>
  <cp:revision>380</cp:revision>
  <dc:subject/>
  <dc:title>Slide 1</dc:title>
</cp:coreProperties>
</file>